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5312-AB51-48BC-87CD-0FC2403F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FA26-0948-4D24-98AC-C6E6A962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B198-96E2-44E1-BDAB-5B9A4EA1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208C-E13D-4529-BC88-AC107B30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91CD-0EC8-4C1B-8102-20F01D96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27C5-0E68-451E-BE6A-A4976560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BC36-C5FF-4F04-9799-9FBB364A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3245-ABCA-4AC4-B3C5-44DF031A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F5B4-943B-46C6-9914-8CA56546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040E-1595-42E9-B531-4829DD7C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040C-9C38-4665-AD88-12401037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76AB5-3CA3-42CE-B9A9-05E5B61E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36A9-5B18-48EE-972A-57CEC040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53A6-D386-4468-820B-151CEC75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8D0F-2AC8-4C90-BB91-FAAD7F16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9DA1-66BB-4641-B040-B44888E2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E931-391A-4828-9418-EAC7DD3E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457C-9E53-4833-9B5E-5829EDE4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987C-C22E-40E6-B017-7EB96FE8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C74D3-A70B-43A5-9C15-993E538E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0456E-54EE-4F3E-AD89-ABBDB1C3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E79B-C99C-4AFD-B803-F1508034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CD73-81BA-4B83-B12A-82209E8E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FAA1-E08E-46E7-B794-F5D8B67B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7287-0FF8-4EA1-9EE7-A25319972E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AEB1-DE05-4E03-9F99-C407EF5659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l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challenge you with random cip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Games men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structions on the scre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game help 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explain the details o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ing against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191120" y="1676520"/>
            <a:ext cx="464796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1524-E7BA-4830-A0A9-3DF36C1CA9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run standardized randomness tests against binary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828800" y="2895480"/>
            <a:ext cx="68580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B641-672E-4C77-8E35-1BB10F501C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provides a tool for long integer 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733920" y="2666880"/>
            <a:ext cx="377964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AB2F-6594-445A-B77E-A17B00EE7B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can monitor your code breaking activities and provide a record of your use of 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help you avoid redo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724280" y="1752480"/>
            <a:ext cx="35467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2445A-7393-4C2C-AF2C-F5B3A5371B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is Bar offers tools than may prove useful in breaking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136368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EE67-10F4-477D-AA0A-A324B80E11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is a general purpose tool for the study of classical (and some contemporary) ciph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is really three related programs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that will encrypt and decrypt text using your choice of several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tools for breaking unknown cip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me which will generate random ciphers and challenge you to break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" y="5867280"/>
            <a:ext cx="74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his presentation will introduce you to the general features of 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B40D-3E39-42EB-846F-E908DEEB41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items below to jump to help on the specific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just continue to advance through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276720"/>
            <a:ext cx="2333880" cy="542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3886200"/>
            <a:ext cx="2343240" cy="51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4457880"/>
            <a:ext cx="2390760" cy="49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7086600" y="44197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3657600" y="5638680"/>
            <a:ext cx="2362320" cy="4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609480" y="6172200"/>
            <a:ext cx="231480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3657600" y="3276720"/>
            <a:ext cx="237168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3657600" y="4419720"/>
            <a:ext cx="2343240" cy="52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3657600" y="3886200"/>
            <a:ext cx="2314440" cy="46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3581280" y="5029200"/>
            <a:ext cx="2571840" cy="542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609480" y="5029200"/>
            <a:ext cx="2333880" cy="514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533520" y="5562720"/>
            <a:ext cx="2571480" cy="51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8656-6FEB-4182-A32D-7C3473BE1C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81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first open CAP this is the main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5257800" cy="45957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7086600" y="2286000"/>
            <a:ext cx="1219320" cy="762120"/>
            <a:chOff x="7086600" y="2286000"/>
            <a:chExt cx="1219320" cy="762120"/>
          </a:xfrm>
        </p:grpSpPr>
        <p:sp>
          <p:nvSpPr>
            <p:cNvPr id="134" name=""/>
            <p:cNvSpPr/>
            <p:nvPr/>
          </p:nvSpPr>
          <p:spPr>
            <a:xfrm>
              <a:off x="7086600" y="22860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4360" y="2286000"/>
              <a:ext cx="113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12440" y="3886200"/>
            <a:ext cx="1310040" cy="762120"/>
            <a:chOff x="7012440" y="3886200"/>
            <a:chExt cx="1310040" cy="762120"/>
          </a:xfrm>
        </p:grpSpPr>
        <p:sp>
          <p:nvSpPr>
            <p:cNvPr id="137" name=""/>
            <p:cNvSpPr/>
            <p:nvPr/>
          </p:nvSpPr>
          <p:spPr>
            <a:xfrm>
              <a:off x="7022880" y="38862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2440" y="388620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Cipher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37E5-C407-4853-A57C-ABD74C66BC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men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441468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191120" y="1981080"/>
            <a:ext cx="990360" cy="533520"/>
            <a:chOff x="4191120" y="1981080"/>
            <a:chExt cx="990360" cy="533520"/>
          </a:xfrm>
        </p:grpSpPr>
        <p:sp>
          <p:nvSpPr>
            <p:cNvPr id="146" name=""/>
            <p:cNvSpPr/>
            <p:nvPr/>
          </p:nvSpPr>
          <p:spPr>
            <a:xfrm>
              <a:off x="4191120" y="1981080"/>
              <a:ext cx="990360" cy="533520"/>
            </a:xfrm>
            <a:prstGeom prst="wedgeRoundRectCallout">
              <a:avLst>
                <a:gd name="adj1" fmla="val -43268"/>
                <a:gd name="adj2" fmla="val 78569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2560" y="1981080"/>
              <a:ext cx="94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onver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ASC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5520" y="2819520"/>
            <a:ext cx="4340160" cy="3200400"/>
            <a:chOff x="155520" y="2819520"/>
            <a:chExt cx="4340160" cy="3200400"/>
          </a:xfrm>
        </p:grpSpPr>
        <p:sp>
          <p:nvSpPr>
            <p:cNvPr id="149" name=""/>
            <p:cNvSpPr/>
            <p:nvPr/>
          </p:nvSpPr>
          <p:spPr>
            <a:xfrm>
              <a:off x="3962520" y="2819520"/>
              <a:ext cx="53316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2133720" y="3200400"/>
              <a:ext cx="15778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55520" y="3505320"/>
              <a:ext cx="196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rting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s is usefu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 variety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ph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7D91-A1CF-4C7C-A864-A5BDF50E57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 me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0384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2A0B-979E-42E6-A68B-E91535DD69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is the process of separating the ciphertext into segments of fixed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it easier to read without giving away standard word sp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2390760" cy="3324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34320" y="434016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Block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87840" y="2971800"/>
            <a:ext cx="3588480" cy="1521000"/>
            <a:chOff x="987840" y="2971800"/>
            <a:chExt cx="3588480" cy="1521000"/>
          </a:xfrm>
        </p:grpSpPr>
        <p:sp>
          <p:nvSpPr>
            <p:cNvPr id="162" name=""/>
            <p:cNvSpPr/>
            <p:nvPr/>
          </p:nvSpPr>
          <p:spPr>
            <a:xfrm>
              <a:off x="1197000" y="3407040"/>
              <a:ext cx="31428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7840" y="297180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out spa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7440" y="3505320"/>
              <a:ext cx="289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klttekwpov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tnbzyqacee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77840" y="4654440"/>
            <a:ext cx="3429000" cy="1521000"/>
            <a:chOff x="1077840" y="4654440"/>
            <a:chExt cx="3429000" cy="1521000"/>
          </a:xfrm>
        </p:grpSpPr>
        <p:sp>
          <p:nvSpPr>
            <p:cNvPr id="166" name=""/>
            <p:cNvSpPr/>
            <p:nvPr/>
          </p:nvSpPr>
          <p:spPr>
            <a:xfrm>
              <a:off x="1077840" y="5089680"/>
              <a:ext cx="34290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97640" y="465444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 bloc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4040" y="5187960"/>
              <a:ext cx="311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 kltte kwpov 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 tnbzy qacee 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D2F2-9552-49E1-929F-9804C6D73F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s Menu lists all the possible algorithms which CAP is capable of ru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are being added all th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mplement a cipher, click 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name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2827440" cy="4648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2240" y="4267080"/>
            <a:ext cx="40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Help on each cip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vailable from the main help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rom the help feature of ea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ci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54EF-D6DA-4A06-A833-3CEF3F23EC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solv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olve is not active at this time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48EE-79DC-40BE-BF27-058E7AA353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2T00:45:37Z</dcterms:modified>
  <cp:revision>23</cp:revision>
  <dc:subject/>
  <dc:title>CAP Cryptographic Analysis Program</dc:title>
</cp:coreProperties>
</file>